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10.jpeg" ContentType="image/jpeg"/>
  <Override PartName="/ppt/media/image25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2.gif" ContentType="image/gif"/>
  <Override PartName="/ppt/media/image2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gif" ContentType="image/gif"/>
  <Override PartName="/ppt/media/image7.jpeg" ContentType="image/jpeg"/>
  <Override PartName="/ppt/media/image5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6.gif" ContentType="image/gif"/>
  <Override PartName="/ppt/media/image14.jpeg" ContentType="image/jpeg"/>
  <Override PartName="/ppt/media/image19.gif" ContentType="image/gif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0A1-BF3B-45D0-A98E-6ADCBC9D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F23-187A-499F-BAEA-B4066CF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672-D52E-4CAD-9F15-B6CFF45F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49C-1CA0-4644-AC22-3EA9BEA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CE1-E85A-4AD8-9869-CB70608B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8AA-279F-4355-998A-C48C6157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5A1-606E-434E-839E-35CC38D3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4AA-BCD1-4915-9D1C-28B2A8D6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AF0-BB6B-42CB-8ABB-52B79ACF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460-D81A-47A7-BD1E-CA9F979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0CF-2823-4728-910F-1BB48FE7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13D-57F3-4B8E-ABE4-F8B40F49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5AC-A040-4206-B696-96ED5C70F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4.gif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341360"/>
            <a:ext cx="1368360" cy="514440"/>
            <a:chOff x="2700360" y="1341360"/>
            <a:chExt cx="1368360" cy="514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34800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70036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2351160" cy="30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24360" y="4149720"/>
            <a:ext cx="3168000" cy="1584360"/>
            <a:chOff x="5724360" y="4149720"/>
            <a:chExt cx="3168000" cy="1584360"/>
          </a:xfrm>
        </p:grpSpPr>
        <p:grpSp>
          <p:nvGrpSpPr>
            <p:cNvPr id="48" name=""/>
            <p:cNvGrpSpPr/>
            <p:nvPr/>
          </p:nvGrpSpPr>
          <p:grpSpPr>
            <a:xfrm>
              <a:off x="5724360" y="4149720"/>
              <a:ext cx="2592000" cy="863640"/>
              <a:chOff x="5724360" y="4149720"/>
              <a:chExt cx="2592000" cy="863640"/>
            </a:xfrm>
          </p:grpSpPr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414972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300360" y="4870440"/>
              <a:ext cx="2592000" cy="863640"/>
              <a:chOff x="6300360" y="4870440"/>
              <a:chExt cx="2592000" cy="863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2952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0360" y="487044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1404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"/>
          <p:cNvGrpSpPr/>
          <p:nvPr/>
        </p:nvGrpSpPr>
        <p:grpSpPr>
          <a:xfrm>
            <a:off x="2627280" y="260280"/>
            <a:ext cx="6049800" cy="2376720"/>
            <a:chOff x="2627280" y="260280"/>
            <a:chExt cx="6049800" cy="2376720"/>
          </a:xfrm>
        </p:grpSpPr>
        <p:grpSp>
          <p:nvGrpSpPr>
            <p:cNvPr id="57" name=""/>
            <p:cNvGrpSpPr/>
            <p:nvPr/>
          </p:nvGrpSpPr>
          <p:grpSpPr>
            <a:xfrm>
              <a:off x="3708360" y="260280"/>
              <a:ext cx="792000" cy="1584360"/>
              <a:chOff x="3708360" y="260280"/>
              <a:chExt cx="792000" cy="1584360"/>
            </a:xfrm>
          </p:grpSpPr>
          <p:pic>
            <p:nvPicPr>
              <p:cNvPr id="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0836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788000" y="1052640"/>
              <a:ext cx="792000" cy="1584360"/>
              <a:chOff x="4788000" y="1052640"/>
              <a:chExt cx="792000" cy="15843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88000" y="10526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88000" y="184464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"/>
            <p:cNvGrpSpPr/>
            <p:nvPr/>
          </p:nvGrpSpPr>
          <p:grpSpPr>
            <a:xfrm>
              <a:off x="5867280" y="260280"/>
              <a:ext cx="792000" cy="1584360"/>
              <a:chOff x="5867280" y="260280"/>
              <a:chExt cx="792000" cy="1584360"/>
            </a:xfrm>
          </p:grpSpPr>
          <p:pic>
            <p:nvPicPr>
              <p:cNvPr id="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2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2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6877080" y="981000"/>
              <a:ext cx="792000" cy="1584360"/>
              <a:chOff x="6877080" y="981000"/>
              <a:chExt cx="792000" cy="15843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77080" y="981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877080" y="1773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85080" y="260280"/>
              <a:ext cx="792000" cy="1584360"/>
              <a:chOff x="7885080" y="260280"/>
              <a:chExt cx="792000" cy="1584360"/>
            </a:xfrm>
          </p:grpSpPr>
          <p:pic>
            <p:nvPicPr>
              <p:cNvPr id="7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8850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627280" y="765000"/>
              <a:ext cx="792000" cy="1584360"/>
              <a:chOff x="2627280" y="765000"/>
              <a:chExt cx="792000" cy="1584360"/>
            </a:xfrm>
          </p:grpSpPr>
          <p:pic>
            <p:nvPicPr>
              <p:cNvPr id="7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27280" y="765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627280" y="1557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260280"/>
            <a:ext cx="67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аждой кадушки по 2 лягушки.                                               Сколько лягушек у 3 кадуш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908600"/>
            <a:ext cx="4408200" cy="1948680"/>
            <a:chOff x="1332000" y="4908600"/>
            <a:chExt cx="4408200" cy="194868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908600"/>
              <a:ext cx="1400040" cy="1948680"/>
              <a:chOff x="1332000" y="4908600"/>
              <a:chExt cx="1400040" cy="1948680"/>
            </a:xfrm>
          </p:grpSpPr>
          <p:pic>
            <p:nvPicPr>
              <p:cNvPr id="255" name="Picture 7" descr="Картинка 7 из 33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1332000" y="6118200"/>
                <a:ext cx="1400040" cy="739080"/>
                <a:chOff x="1332000" y="6118200"/>
                <a:chExt cx="1400040" cy="739080"/>
              </a:xfrm>
            </p:grpSpPr>
            <p:pic>
              <p:nvPicPr>
                <p:cNvPr id="257" name="Picture 19" descr="Картинка 33 из 72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20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19" descr="Картинка 33 из 727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0322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"/>
            <p:cNvGrpSpPr/>
            <p:nvPr/>
          </p:nvGrpSpPr>
          <p:grpSpPr>
            <a:xfrm>
              <a:off x="4340160" y="4908600"/>
              <a:ext cx="1400040" cy="1948680"/>
              <a:chOff x="4340160" y="4908600"/>
              <a:chExt cx="1400040" cy="1948680"/>
            </a:xfrm>
          </p:grpSpPr>
          <p:pic>
            <p:nvPicPr>
              <p:cNvPr id="260" name="Picture 7" descr="Картинка 7 из 33"/>
              <p:cNvPicPr/>
              <p:nvPr/>
            </p:nvPicPr>
            <p:blipFill>
              <a:blip r:embed="rId5"/>
              <a:stretch/>
            </p:blipFill>
            <p:spPr>
              <a:xfrm>
                <a:off x="453204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1" name=""/>
              <p:cNvGrpSpPr/>
              <p:nvPr/>
            </p:nvGrpSpPr>
            <p:grpSpPr>
              <a:xfrm>
                <a:off x="4340160" y="6118200"/>
                <a:ext cx="1400040" cy="739080"/>
                <a:chOff x="4340160" y="6118200"/>
                <a:chExt cx="1400040" cy="739080"/>
              </a:xfrm>
            </p:grpSpPr>
            <p:pic>
              <p:nvPicPr>
                <p:cNvPr id="262" name="Picture 19" descr="Картинка 33 из 72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4016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19" descr="Картинка 33 из 727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04036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4" name=""/>
            <p:cNvGrpSpPr/>
            <p:nvPr/>
          </p:nvGrpSpPr>
          <p:grpSpPr>
            <a:xfrm>
              <a:off x="2836800" y="4908600"/>
              <a:ext cx="1400040" cy="1948680"/>
              <a:chOff x="2836800" y="4908600"/>
              <a:chExt cx="1400040" cy="1948680"/>
            </a:xfrm>
          </p:grpSpPr>
          <p:pic>
            <p:nvPicPr>
              <p:cNvPr id="265" name="Picture 7" descr="Картинка 7 из 33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4908600"/>
                <a:ext cx="102852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6" name=""/>
              <p:cNvGrpSpPr/>
              <p:nvPr/>
            </p:nvGrpSpPr>
            <p:grpSpPr>
              <a:xfrm>
                <a:off x="2836800" y="6118200"/>
                <a:ext cx="1400040" cy="739080"/>
                <a:chOff x="2836800" y="6118200"/>
                <a:chExt cx="1400040" cy="739080"/>
              </a:xfrm>
            </p:grpSpPr>
            <p:pic>
              <p:nvPicPr>
                <p:cNvPr id="267" name="Picture 19" descr="Картинка 33 из 72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368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Картинка 33 из 727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5370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20720" y="189000"/>
            <a:ext cx="6286680" cy="3886200"/>
            <a:chOff x="1620720" y="189000"/>
            <a:chExt cx="6286680" cy="3886200"/>
          </a:xfrm>
        </p:grpSpPr>
        <p:grpSp>
          <p:nvGrpSpPr>
            <p:cNvPr id="76" name=""/>
            <p:cNvGrpSpPr/>
            <p:nvPr/>
          </p:nvGrpSpPr>
          <p:grpSpPr>
            <a:xfrm>
              <a:off x="1620720" y="189000"/>
              <a:ext cx="4630320" cy="3311280"/>
              <a:chOff x="1620720" y="189000"/>
              <a:chExt cx="4630320" cy="33112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620720" y="189000"/>
                <a:ext cx="1463760" cy="2374920"/>
                <a:chOff x="1620720" y="189000"/>
                <a:chExt cx="1463760" cy="2374920"/>
              </a:xfrm>
            </p:grpSpPr>
            <p:pic>
              <p:nvPicPr>
                <p:cNvPr id="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8900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92360" y="98100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0720" y="177336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"/>
              <p:cNvGrpSpPr/>
              <p:nvPr/>
            </p:nvGrpSpPr>
            <p:grpSpPr>
              <a:xfrm>
                <a:off x="3276720" y="692280"/>
                <a:ext cx="1463040" cy="2374920"/>
                <a:chOff x="3276720" y="692280"/>
                <a:chExt cx="1463040" cy="237492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3640" y="69228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48000" y="148428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76720" y="227664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"/>
              <p:cNvGrpSpPr/>
              <p:nvPr/>
            </p:nvGrpSpPr>
            <p:grpSpPr>
              <a:xfrm>
                <a:off x="4788000" y="1125360"/>
                <a:ext cx="1463040" cy="2374920"/>
                <a:chOff x="4788000" y="1125360"/>
                <a:chExt cx="1463040" cy="23749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4920" y="112536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191736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8000" y="270972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" name=""/>
            <p:cNvGrpSpPr/>
            <p:nvPr/>
          </p:nvGrpSpPr>
          <p:grpSpPr>
            <a:xfrm>
              <a:off x="6443640" y="1700280"/>
              <a:ext cx="1463760" cy="2374920"/>
              <a:chOff x="6443640" y="1700280"/>
              <a:chExt cx="1463760" cy="237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0920" y="170028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15280" y="2492280"/>
                <a:ext cx="117612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43640" y="328464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780000" y="4437000"/>
            <a:ext cx="4250880" cy="1928520"/>
            <a:chOff x="3780000" y="4437000"/>
            <a:chExt cx="4250880" cy="1928520"/>
          </a:xfrm>
        </p:grpSpPr>
        <p:grpSp>
          <p:nvGrpSpPr>
            <p:cNvPr id="98" name=""/>
            <p:cNvGrpSpPr/>
            <p:nvPr/>
          </p:nvGrpSpPr>
          <p:grpSpPr>
            <a:xfrm>
              <a:off x="3780000" y="4437000"/>
              <a:ext cx="4250880" cy="415800"/>
              <a:chOff x="3780000" y="4437000"/>
              <a:chExt cx="4250880" cy="415800"/>
            </a:xfrm>
          </p:grpSpPr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856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784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71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6040" y="4437000"/>
                <a:ext cx="47844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5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528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780000" y="5229360"/>
              <a:ext cx="4247640" cy="415440"/>
              <a:chOff x="3780000" y="5229360"/>
              <a:chExt cx="4247640" cy="415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0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82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3676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6568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93880" y="522936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21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4992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3780000" y="5950080"/>
              <a:ext cx="4250880" cy="415440"/>
              <a:chOff x="3780000" y="5950080"/>
              <a:chExt cx="4250880" cy="4154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800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0856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3784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671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96040" y="5950080"/>
                <a:ext cx="47844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9235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5528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1280" y="3068640"/>
            <a:ext cx="6360840" cy="3542760"/>
            <a:chOff x="2411280" y="3068640"/>
            <a:chExt cx="6360840" cy="3542760"/>
          </a:xfrm>
        </p:grpSpPr>
        <p:grpSp>
          <p:nvGrpSpPr>
            <p:cNvPr id="126" name=""/>
            <p:cNvGrpSpPr/>
            <p:nvPr/>
          </p:nvGrpSpPr>
          <p:grpSpPr>
            <a:xfrm>
              <a:off x="2411280" y="3068640"/>
              <a:ext cx="6216840" cy="877680"/>
              <a:chOff x="2411280" y="3068640"/>
              <a:chExt cx="6216840" cy="8776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56720" y="314172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2411280" y="3068640"/>
                <a:ext cx="5545080" cy="877680"/>
                <a:chOff x="2411280" y="3068640"/>
                <a:chExt cx="5545080" cy="87768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6540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332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2124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4700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901120" y="32864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2904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283160" y="33602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1128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"/>
            <p:cNvGrpSpPr/>
            <p:nvPr/>
          </p:nvGrpSpPr>
          <p:grpSpPr>
            <a:xfrm>
              <a:off x="2484360" y="3933720"/>
              <a:ext cx="6216840" cy="877680"/>
              <a:chOff x="2484360" y="3933720"/>
              <a:chExt cx="6216840" cy="877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029800" y="400680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"/>
              <p:cNvGrpSpPr/>
              <p:nvPr/>
            </p:nvGrpSpPr>
            <p:grpSpPr>
              <a:xfrm>
                <a:off x="2484360" y="3933720"/>
                <a:ext cx="5545080" cy="877680"/>
                <a:chOff x="2484360" y="3933720"/>
                <a:chExt cx="5545080" cy="87768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848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6640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9432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2008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974200" y="4151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70212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56240" y="42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8436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" name=""/>
            <p:cNvGrpSpPr/>
            <p:nvPr/>
          </p:nvGrpSpPr>
          <p:grpSpPr>
            <a:xfrm>
              <a:off x="2484360" y="4797360"/>
              <a:ext cx="6216840" cy="877680"/>
              <a:chOff x="2484360" y="4797360"/>
              <a:chExt cx="6216840" cy="8776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029800" y="487044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"/>
              <p:cNvGrpSpPr/>
              <p:nvPr/>
            </p:nvGrpSpPr>
            <p:grpSpPr>
              <a:xfrm>
                <a:off x="2484360" y="4797360"/>
                <a:ext cx="5545080" cy="877680"/>
                <a:chOff x="2484360" y="4797360"/>
                <a:chExt cx="5545080" cy="877680"/>
              </a:xfrm>
            </p:grpSpPr>
            <p:pic>
              <p:nvPicPr>
                <p:cNvPr id="1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3848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86640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59432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2008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974200" y="5015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70212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356240" y="50889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48436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9" name=""/>
            <p:cNvGrpSpPr/>
            <p:nvPr/>
          </p:nvGrpSpPr>
          <p:grpSpPr>
            <a:xfrm>
              <a:off x="2556000" y="5734080"/>
              <a:ext cx="6216120" cy="877320"/>
              <a:chOff x="2556000" y="5734080"/>
              <a:chExt cx="6216120" cy="8773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8101080" y="5806800"/>
                <a:ext cx="671040" cy="58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6000" y="5734080"/>
                <a:ext cx="5544720" cy="877320"/>
                <a:chOff x="2556000" y="5734080"/>
                <a:chExt cx="5544720" cy="87732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21012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93804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6560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39172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045480" y="59518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7734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427520" y="60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5560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70" name="" descr=""/>
          <p:cNvPicPr/>
          <p:nvPr/>
        </p:nvPicPr>
        <p:blipFill>
          <a:blip r:embed="rId39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564000" y="1125360"/>
            <a:ext cx="4873680" cy="3805200"/>
            <a:chOff x="3564000" y="1125360"/>
            <a:chExt cx="4873680" cy="3805200"/>
          </a:xfrm>
        </p:grpSpPr>
        <p:grpSp>
          <p:nvGrpSpPr>
            <p:cNvPr id="172" name=""/>
            <p:cNvGrpSpPr/>
            <p:nvPr/>
          </p:nvGrpSpPr>
          <p:grpSpPr>
            <a:xfrm>
              <a:off x="3564000" y="1125360"/>
              <a:ext cx="1778040" cy="1573200"/>
              <a:chOff x="3564000" y="1125360"/>
              <a:chExt cx="1778040" cy="15732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7640" y="112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000" y="191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643280" y="1773000"/>
              <a:ext cx="1778040" cy="1573200"/>
              <a:chOff x="4643280" y="1773000"/>
              <a:chExt cx="1778040" cy="15732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6920" y="1773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3280" y="2565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"/>
            <p:cNvGrpSpPr/>
            <p:nvPr/>
          </p:nvGrpSpPr>
          <p:grpSpPr>
            <a:xfrm>
              <a:off x="5724360" y="2420640"/>
              <a:ext cx="1778040" cy="1573200"/>
              <a:chOff x="5724360" y="2420640"/>
              <a:chExt cx="1778040" cy="157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2420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3212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6659640" y="3357360"/>
              <a:ext cx="1778040" cy="1573200"/>
              <a:chOff x="6659640" y="3357360"/>
              <a:chExt cx="1778040" cy="15732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23280" y="3357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59640" y="4149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64000" y="1773360"/>
            <a:ext cx="4873680" cy="3805200"/>
            <a:chOff x="3564000" y="1773360"/>
            <a:chExt cx="4873680" cy="3805200"/>
          </a:xfrm>
        </p:grpSpPr>
        <p:grpSp>
          <p:nvGrpSpPr>
            <p:cNvPr id="186" name=""/>
            <p:cNvGrpSpPr/>
            <p:nvPr/>
          </p:nvGrpSpPr>
          <p:grpSpPr>
            <a:xfrm>
              <a:off x="3564000" y="1773360"/>
              <a:ext cx="1778040" cy="1573200"/>
              <a:chOff x="3564000" y="1773360"/>
              <a:chExt cx="1778040" cy="1573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7640" y="1773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4000" y="2565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643280" y="2421000"/>
              <a:ext cx="1778040" cy="1573200"/>
              <a:chOff x="4643280" y="2421000"/>
              <a:chExt cx="1778040" cy="157320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6920" y="2421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3280" y="3213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724360" y="3068640"/>
              <a:ext cx="1778040" cy="1573200"/>
              <a:chOff x="5724360" y="3068640"/>
              <a:chExt cx="1778040" cy="1573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88000" y="3068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24360" y="3860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6659640" y="4005360"/>
              <a:ext cx="1778040" cy="1573200"/>
              <a:chOff x="6659640" y="4005360"/>
              <a:chExt cx="1778040" cy="1573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23280" y="400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659640" y="479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2843280" y="3933720"/>
            <a:ext cx="163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25432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24360" y="2924280"/>
            <a:ext cx="4968360" cy="3717720"/>
            <a:chOff x="3924360" y="2924280"/>
            <a:chExt cx="4968360" cy="3717720"/>
          </a:xfrm>
        </p:grpSpPr>
        <p:grpSp>
          <p:nvGrpSpPr>
            <p:cNvPr id="204" name=""/>
            <p:cNvGrpSpPr/>
            <p:nvPr/>
          </p:nvGrpSpPr>
          <p:grpSpPr>
            <a:xfrm>
              <a:off x="7164360" y="5589720"/>
              <a:ext cx="1296720" cy="1052280"/>
              <a:chOff x="7164360" y="5589720"/>
              <a:chExt cx="1296720" cy="10522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558972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4720" y="630864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0" y="5948280"/>
                <a:ext cx="936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6516720" y="2924280"/>
              <a:ext cx="2376000" cy="1506240"/>
              <a:chOff x="6516720" y="2924280"/>
              <a:chExt cx="2376000" cy="15062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16720" y="2924280"/>
                <a:ext cx="96300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88200" y="3310560"/>
                <a:ext cx="963000" cy="60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30080" y="3824640"/>
                <a:ext cx="962640" cy="60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5651640" y="4365720"/>
              <a:ext cx="2952720" cy="1089000"/>
              <a:chOff x="5651640" y="4365720"/>
              <a:chExt cx="2952720" cy="10890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436572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8360" y="465300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96360" y="4868640"/>
                <a:ext cx="1008000" cy="58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3924360" y="2924280"/>
              <a:ext cx="3311640" cy="1241280"/>
              <a:chOff x="3924360" y="2924280"/>
              <a:chExt cx="3311640" cy="12412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24360" y="292428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2360" y="328464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3573360"/>
                <a:ext cx="129564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0" name=""/>
          <p:cNvGrpSpPr/>
          <p:nvPr/>
        </p:nvGrpSpPr>
        <p:grpSpPr>
          <a:xfrm>
            <a:off x="395280" y="2492280"/>
            <a:ext cx="2249640" cy="1889280"/>
            <a:chOff x="395280" y="2492280"/>
            <a:chExt cx="2249640" cy="188928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755640" y="24922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1692360" y="3213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9"/>
            <a:stretch/>
          </p:blipFill>
          <p:spPr>
            <a:xfrm>
              <a:off x="395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411280" y="333360"/>
            <a:ext cx="67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щурёнка, 3 ер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сома и 3 ле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рыбок у к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333360"/>
            <a:ext cx="4897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1844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04920" cy="146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68360" y="260280"/>
            <a:ext cx="68756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раве бежал кот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за ним бежал щ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, ребята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ам бежало ла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3660840"/>
            <a:ext cx="9325080" cy="2431800"/>
            <a:chOff x="0" y="3660840"/>
            <a:chExt cx="9325080" cy="24318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940360" y="473220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0" y="3660840"/>
              <a:ext cx="9325080" cy="2431800"/>
              <a:chOff x="0" y="3660840"/>
              <a:chExt cx="9325080" cy="24318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4424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08672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1640" y="479808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9456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8360" y="4299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720" y="3660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9640" y="38030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80000" y="4299840"/>
                <a:ext cx="1584000" cy="129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1" name=""/>
          <p:cNvSpPr/>
          <p:nvPr/>
        </p:nvSpPr>
        <p:spPr>
          <a:xfrm>
            <a:off x="468360" y="0"/>
            <a:ext cx="5040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жно муравьи живу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без дела не сную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трав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был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игол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о их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40000" y="333360"/>
            <a:ext cx="66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ушей у 6 м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920" y="3716280"/>
            <a:ext cx="8893080" cy="3141720"/>
            <a:chOff x="250920" y="3716280"/>
            <a:chExt cx="8893080" cy="31417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6804000" y="4581360"/>
              <a:ext cx="11714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50920" y="3716280"/>
              <a:ext cx="8893080" cy="3141720"/>
              <a:chOff x="250920" y="3716280"/>
              <a:chExt cx="8893080" cy="3141720"/>
            </a:xfrm>
          </p:grpSpPr>
          <p:pic>
            <p:nvPicPr>
              <p:cNvPr id="2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537372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371628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427640" y="371628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7972560" y="571500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00000" y="407664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2:51:54Z</dcterms:modified>
  <cp:revision>25</cp:revision>
  <dc:subject/>
  <dc:title>Слайд 1</dc:title>
</cp:coreProperties>
</file>